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829-E5A4-43E4-8F82-F9CC6926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C1C-5230-4513-8B40-C6EF6C50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CEF-30AB-4B97-835B-5155EF82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BD1-8D1A-42C5-B181-0720AF30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F475-4262-460E-B4FF-9B011D94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E23A-E683-46D3-B768-30DC2CCC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4C87-6F8C-4DC8-8B9D-E3F0BA78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E936-3BD2-4A08-8F6A-05BD4965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4834-B5A8-4785-BBDD-9C77495F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405E-B1B0-4117-9360-9DC583DB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DFE9-08C8-4C64-A321-7B24EB42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F25-3737-41CF-A977-7E2CD3F3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EF66-7188-4811-B58F-023A144C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F2D5-05BC-44F0-B759-A18E986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A7E2-CBDF-41EF-A302-B6A61D39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CE15-3952-4A3B-9CDB-64811474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CC56-043C-495C-B2EA-53B7A349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0D5-F866-40FB-88EF-78846A7D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27E-8631-4F90-8A82-4AE6ABE9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92B-CA4F-44BB-986E-49DF2E31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780-32C1-48BD-93E2-2BA0F107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DD1-B5DD-45FF-BF18-23A68F77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AE9-F0F4-48B7-A14B-B08B97FD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BF8-0C34-4439-AD6D-2DFA9C87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33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BE61-1643-4763-A494-C3B732C701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1D26-E104-4AFB-B1B8-C036F85DBBD6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We_Can_Do_It!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Women’s Role in WWI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2819160"/>
            <a:ext cx="56390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entury Gothic"/>
              </a:rPr>
              <a:t>Olivia, Chloe, Lauren and Asci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4" name="Picture 5" descr="250px-We_Can_Do_It%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352680"/>
            <a:ext cx="252756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othejobheleftbehind"/>
          <p:cNvPicPr/>
          <p:nvPr/>
        </p:nvPicPr>
        <p:blipFill>
          <a:blip r:embed="rId3"/>
          <a:stretch/>
        </p:blipFill>
        <p:spPr>
          <a:xfrm>
            <a:off x="3581280" y="3352680"/>
            <a:ext cx="2136960" cy="330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Georgia working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http://cache1.asset-cache.net/xc/50622757.jpg?v=1&amp;c=IWSAsset&amp;k=2&amp;d=E41C9FE5C4AA0A145A8D52A8CADD9DF038C370530AF24A8A590EBAD4CF2A0D90B01E70F2B3269972"/>
          <p:cNvPicPr/>
          <p:nvPr/>
        </p:nvPicPr>
        <p:blipFill>
          <a:blip r:embed="rId1"/>
          <a:stretch/>
        </p:blipFill>
        <p:spPr>
          <a:xfrm>
            <a:off x="533520" y="1828800"/>
            <a:ext cx="3809880" cy="4686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smithcollegesquash.files.wordpress.com/2008/09/16_uncle_sam_and_rosie_the_riveter1.jpg"/>
          <p:cNvPicPr/>
          <p:nvPr/>
        </p:nvPicPr>
        <p:blipFill>
          <a:blip r:embed="rId2"/>
          <a:stretch/>
        </p:blipFill>
        <p:spPr>
          <a:xfrm>
            <a:off x="4800600" y="1828800"/>
            <a:ext cx="3749760" cy="4648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Robert returned h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http://firstspecialserviceforce.net/Doris_and_Herb_atop_Mountain.jpg"/>
          <p:cNvPicPr/>
          <p:nvPr/>
        </p:nvPicPr>
        <p:blipFill>
          <a:blip r:embed="rId1"/>
          <a:stretch/>
        </p:blipFill>
        <p:spPr>
          <a:xfrm>
            <a:off x="533520" y="2133720"/>
            <a:ext cx="4244760" cy="4244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Robert work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http://www.navsea.navy.mil/nuwc/newport/ImageGallery/Men%20Working%20in%20Factory.%20WWII.jpg"/>
          <p:cNvPicPr/>
          <p:nvPr/>
        </p:nvPicPr>
        <p:blipFill>
          <a:blip r:embed="rId1"/>
          <a:stretch/>
        </p:blipFill>
        <p:spPr>
          <a:xfrm>
            <a:off x="380880" y="2209680"/>
            <a:ext cx="5257800" cy="4119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www1.sulekha.com/mstore/annaakka/albums/default/Danger%20men%20cooking.jpg"/>
          <p:cNvPicPr/>
          <p:nvPr/>
        </p:nvPicPr>
        <p:blipFill>
          <a:blip r:embed="rId2"/>
          <a:stretch/>
        </p:blipFill>
        <p:spPr>
          <a:xfrm>
            <a:off x="5867280" y="2209680"/>
            <a:ext cx="28576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Georgia and Robert Buckingh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http://blogs.courant.com/itowns_mr/lovers.JPG"/>
          <p:cNvPicPr/>
          <p:nvPr/>
        </p:nvPicPr>
        <p:blipFill>
          <a:blip r:embed="rId1"/>
          <a:stretch/>
        </p:blipFill>
        <p:spPr>
          <a:xfrm>
            <a:off x="152280" y="1752480"/>
            <a:ext cx="3557880" cy="2667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www.uscg.mil/History/weboralhistory/bob_donna_wwii_wedding.jpg"/>
          <p:cNvPicPr/>
          <p:nvPr/>
        </p:nvPicPr>
        <p:blipFill>
          <a:blip r:embed="rId2"/>
          <a:stretch/>
        </p:blipFill>
        <p:spPr>
          <a:xfrm>
            <a:off x="762120" y="4191120"/>
            <a:ext cx="1944720" cy="2514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www.literacyla.org/Jack%20Smith%20and%20Denny%20Smith%20photo%20protrait%20-%20WWII.jpg"/>
          <p:cNvPicPr/>
          <p:nvPr/>
        </p:nvPicPr>
        <p:blipFill>
          <a:blip r:embed="rId3"/>
          <a:stretch/>
        </p:blipFill>
        <p:spPr>
          <a:xfrm>
            <a:off x="3505320" y="2590920"/>
            <a:ext cx="5149800" cy="404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Death of the Buckinghams 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http://www.lafire.com/famous_fires/100110_LATimesFire/photos-LAFD-PhotoAlbumCollection_LATimesFire-10011910/100110_lafdphotoalbum_timesfire-2.gif"/>
          <p:cNvPicPr/>
          <p:nvPr/>
        </p:nvPicPr>
        <p:blipFill>
          <a:blip r:embed="rId1"/>
          <a:stretch/>
        </p:blipFill>
        <p:spPr>
          <a:xfrm>
            <a:off x="304920" y="1981080"/>
            <a:ext cx="4356000" cy="2895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www.lafire.com/famous_fires/100110_LATimesFire/100110_timesfire.gif"/>
          <p:cNvPicPr/>
          <p:nvPr/>
        </p:nvPicPr>
        <p:blipFill>
          <a:blip r:embed="rId2"/>
          <a:stretch/>
        </p:blipFill>
        <p:spPr>
          <a:xfrm>
            <a:off x="4038480" y="3352680"/>
            <a:ext cx="4410360" cy="3337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Nurses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1941_your_job"/>
          <p:cNvPicPr/>
          <p:nvPr/>
        </p:nvPicPr>
        <p:blipFill>
          <a:blip r:embed="rId1"/>
          <a:stretch/>
        </p:blipFill>
        <p:spPr>
          <a:xfrm>
            <a:off x="380880" y="1676520"/>
            <a:ext cx="3810240" cy="483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nurseposter"/>
          <p:cNvPicPr/>
          <p:nvPr/>
        </p:nvPicPr>
        <p:blipFill>
          <a:blip r:embed="rId2"/>
          <a:stretch/>
        </p:blipFill>
        <p:spPr>
          <a:xfrm>
            <a:off x="4648320" y="1676520"/>
            <a:ext cx="350820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Tank driver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4" descr="Panzer-Tank-300x300"/>
          <p:cNvPicPr/>
          <p:nvPr/>
        </p:nvPicPr>
        <p:blipFill>
          <a:blip r:embed="rId1"/>
          <a:stretch/>
        </p:blipFill>
        <p:spPr>
          <a:xfrm>
            <a:off x="380880" y="17524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ey101"/>
          <p:cNvPicPr/>
          <p:nvPr/>
        </p:nvPicPr>
        <p:blipFill>
          <a:blip r:embed="rId2"/>
          <a:stretch/>
        </p:blipFill>
        <p:spPr>
          <a:xfrm>
            <a:off x="5334120" y="1752480"/>
            <a:ext cx="3465360" cy="457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Working in factorie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Women_drill_press_operators_in_1942"/>
          <p:cNvPicPr/>
          <p:nvPr/>
        </p:nvPicPr>
        <p:blipFill>
          <a:blip r:embed="rId1"/>
          <a:stretch/>
        </p:blipFill>
        <p:spPr>
          <a:xfrm>
            <a:off x="228600" y="1676520"/>
            <a:ext cx="4419720" cy="352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1333"/>
          <p:cNvPicPr/>
          <p:nvPr/>
        </p:nvPicPr>
        <p:blipFill>
          <a:blip r:embed="rId2"/>
          <a:stretch/>
        </p:blipFill>
        <p:spPr>
          <a:xfrm>
            <a:off x="4648320" y="3200400"/>
            <a:ext cx="426708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Building ship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283447_f260"/>
          <p:cNvPicPr/>
          <p:nvPr/>
        </p:nvPicPr>
        <p:blipFill>
          <a:blip r:embed="rId1"/>
          <a:stretch/>
        </p:blipFill>
        <p:spPr>
          <a:xfrm>
            <a:off x="152280" y="1752480"/>
            <a:ext cx="4027680" cy="472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2178436491_e6bf82f206_o"/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4876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Mechanics/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ngineer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af-9_1485582i"/>
          <p:cNvPicPr/>
          <p:nvPr/>
        </p:nvPicPr>
        <p:blipFill>
          <a:blip r:embed="rId1"/>
          <a:stretch/>
        </p:blipFill>
        <p:spPr>
          <a:xfrm>
            <a:off x="533520" y="1752480"/>
            <a:ext cx="3732120" cy="4800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BTales_198805f"/>
          <p:cNvPicPr/>
          <p:nvPr/>
        </p:nvPicPr>
        <p:blipFill>
          <a:blip r:embed="rId2"/>
          <a:stretch/>
        </p:blipFill>
        <p:spPr>
          <a:xfrm>
            <a:off x="4724280" y="1752480"/>
            <a:ext cx="3694320" cy="472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Pilot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7" descr="female-air-force-engineering-test-pilots-63595cbbd36a4fdb_large"/>
          <p:cNvPicPr/>
          <p:nvPr/>
        </p:nvPicPr>
        <p:blipFill>
          <a:blip r:embed="rId1"/>
          <a:stretch/>
        </p:blipFill>
        <p:spPr>
          <a:xfrm>
            <a:off x="228600" y="342900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018010"/>
          <p:cNvPicPr/>
          <p:nvPr/>
        </p:nvPicPr>
        <p:blipFill>
          <a:blip r:embed="rId2"/>
          <a:stretch/>
        </p:blipFill>
        <p:spPr>
          <a:xfrm>
            <a:off x="2133720" y="1523880"/>
            <a:ext cx="3504960" cy="237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i8_1499-11_b"/>
          <p:cNvPicPr/>
          <p:nvPr/>
        </p:nvPicPr>
        <p:blipFill>
          <a:blip r:embed="rId3"/>
          <a:stretch/>
        </p:blipFill>
        <p:spPr>
          <a:xfrm>
            <a:off x="5638680" y="1981080"/>
            <a:ext cx="3219480" cy="4648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Georgia Buckingh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ww2"/>
          <p:cNvPicPr/>
          <p:nvPr/>
        </p:nvPicPr>
        <p:blipFill>
          <a:blip r:embed="rId1"/>
          <a:stretch/>
        </p:blipFill>
        <p:spPr>
          <a:xfrm>
            <a:off x="380880" y="1981080"/>
            <a:ext cx="4191120" cy="334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women-working-wwii-438883-l"/>
          <p:cNvPicPr/>
          <p:nvPr/>
        </p:nvPicPr>
        <p:blipFill>
          <a:blip r:embed="rId2"/>
          <a:stretch/>
        </p:blipFill>
        <p:spPr>
          <a:xfrm>
            <a:off x="4191120" y="2743200"/>
            <a:ext cx="4762440" cy="385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Gothic"/>
              </a:rPr>
              <a:t>Robert off to wa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http://mywarhistory.com/uploads/myWarPictures/470-Navy_men_.jpg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2:52:29Z</dcterms:created>
  <dc:creator>Information Technology</dc:creator>
  <dc:description/>
  <dc:language>en-US</dc:language>
  <cp:lastModifiedBy>Information Technology</cp:lastModifiedBy>
  <dcterms:modified xsi:type="dcterms:W3CDTF">2010-02-16T13:19:54Z</dcterms:modified>
  <cp:revision>9</cp:revision>
  <dc:subject/>
  <dc:title>Working Women in WWII</dc:title>
</cp:coreProperties>
</file>